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7E1-1FCF-4B84-85C5-3ADB0C58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899-2CFC-4986-90B8-9AD2B5DB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A4A-E9C0-4729-8FC9-4F322244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BA2-2267-4C0E-BA94-C1530DF7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EC4-69F5-4A5B-B5B0-374ACEDD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8EB-73F7-4819-B828-B54FC8B5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44D-3ABB-4256-9732-995524C6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BFE-5BFA-4612-9168-E1D98D2F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503-6C2C-41B7-A2A5-5DA3258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2F8-70CA-49E9-94AD-04091530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376-8DD5-41AA-812D-7E977B4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A62-029B-4CDA-B74E-9F960DE1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9737-8D27-4500-AC16-1B5B62DF135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1 Ovečkou, že Božou s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večkou, že Božou s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ma teší, nocou, d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môj Pastier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 vždy hlas jeho z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o moje blaho db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arosť o mňa stále m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dí k pastvám zelen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vodám tichým, príje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ceste ustáv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plecia ma beri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uje ma, dobre vi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ba jemu patr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je Pastier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dal za mňa život s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dá ma, keď zablúdi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om bol opäť s 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mojím zachránc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večkou ja jeho so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9:20:41Z</dcterms:modified>
  <cp:revision>84</cp:revision>
  <dc:subject/>
  <dc:title>Je veľký náš Pán, on slávy je Kráľ Nech do všetkých strán  spev vrúcnych znie chvál.</dc:title>
</cp:coreProperties>
</file>